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783-2324-45A4-B3EE-9D3356BD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DC7-3CD0-4C61-A748-7E82CFC4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323-70E7-49EF-83EE-D86768B0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DFB-0A54-4786-8834-A94EFF17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26E8-8EE2-4B02-8765-8AF1B6FE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3FCC-6800-4503-9E47-4457D258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1613-D95F-4B20-A2C7-1CE4AC7C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2DBF-C979-4656-8181-7C5A0C42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C7DB-79D1-4E4E-B982-3ACA6728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6E49-A338-4225-BE98-47C02BF4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E5ED-3105-4DE1-B482-9FF95C06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62D-BDB5-406D-8559-B75B9AF0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E243-3DAA-4263-A8F9-42340BC6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7B3D-7682-4D7C-938A-2010282D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8662-8507-48FE-8CD0-A660C02E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4962-1C98-468C-A4BD-65211ED2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DA55-5222-495A-A5E6-30BB1FAA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DF0-C35A-4629-85E3-42A1A8C2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ECD-5E96-474D-A739-B08845A0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EA9-B45D-4CD8-BE8A-D71ECE78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802-004F-4E13-B009-847CBF6E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B92-158D-4A46-BE3E-85059AB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92F-A06C-437D-AB69-337DA544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D28-39DC-47AD-95EE-C91B0204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A39A-BD78-470C-B5D0-6E5CDA3A1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27DC-0437-416C-9BC7-3C3C947DB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Comic Sans MS"/>
              </a:rPr>
              <a:t>EL SALARIO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COMPLEMENTOS SALARIALES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S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Antigü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io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ítu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EST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óxicos, penosos o peligro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ctu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u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u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O CALIDAD EN EL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mas e Incen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uses de A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uses de Asis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ras Extraordin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CIMIENTOS PERIODICOS SUPERIOR A UN 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as Ext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ticipación en Benef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ID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°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vincias Insulares, Ceuta o Meli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BASES DE COTIZACION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980640"/>
            <a:ext cx="76201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TINGENCIA COMU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CCC =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alario Base + Complementos Salariales (Excluidas Horas Extraordinaria) + PP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PPE =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Nº pagas * Qx)/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TINGENCIA PROFESIONALE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CCP=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CCC + Horas Extraordin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RP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Base de IRPF =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otal deven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D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O DE SAL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ES DE SAL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GAR Y TIEMPO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IBO DE SAL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MENTOS SALA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S DE COT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CONCEPTO DE SALARIO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considera salario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talidad de las percepciones económica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ue reciben los trabajadores, e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nero o en especi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por la prestación profesional de sus servicios por cuenta ajen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mnizaciones o suplidos por los gastos realizados como consecuencia de su actividad laboral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dietas de viajes, quebranto de moneda, prendas de trabajo, desgaste de herramientas, gastos de locomoción, Plus de distancia, Plus de transporte)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staciones o indemnizaciones de la Seguridad Social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mnizaciones correspondientes a traslados, suspensiones o despido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CLASES DE SALARI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DAD DE CAL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lario por unidad de tiemp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oras, días, semanas...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lario por unidad de obr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rabajo a destaj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O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lario en metálic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debe pagar en moneda de curso legal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lario en especi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productos, genero;   no superar el 30% del total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Comic Sans MS"/>
              </a:rPr>
              <a:t>LUGAR DE PAGO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lugar será el convenido o el que fijen los usos y costumbres, normalmente en las propia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laciones de empresa o en una institución banca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Comic Sans MS"/>
              </a:rPr>
              <a:t>TIEMPO DE PAGO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rige el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io de la post-remu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ago debe s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iodicidad puede s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aria, semanal quincenal o mensu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pero en ningún caso debe excederse del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la empresa s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mo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 el pago del salario y el trabajador lo ha exigido judicialmente, deberá, además pagar u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és por la demora que la ley fija en el 1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EL RECIBO DE SALARIO (Nómina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O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OS DEL TRABAJADOR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IODO LIQU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N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PCIONES SALA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ARIO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PCIONES NO SALA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DU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QUIDO A PERCIB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4680" y="-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o271294-mtss.i1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6095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BO DE SALARIO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Comic Sans MS"/>
              </a:rPr>
              <a:t>SALARIO BA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la retribución del trabajador fijada por unidad de tiempo o de obra; lo que significa que es una cantidad estable y garantizada en todo caso al trabaj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mbién forman parte del salario base las Pagas Extr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0:21:59Z</dcterms:created>
  <dc:creator>Profesor</dc:creator>
  <dc:description/>
  <dc:language>en-US</dc:language>
  <cp:lastModifiedBy>Invitado</cp:lastModifiedBy>
  <dcterms:modified xsi:type="dcterms:W3CDTF">2008-04-10T05:24:23Z</dcterms:modified>
  <cp:revision>8</cp:revision>
  <dc:subject/>
  <dc:title>EL SALARIO</dc:title>
</cp:coreProperties>
</file>